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4C6-8686-4BB0-BAB2-E8EE153E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872-51C9-4D79-B5DF-7B78FD6D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542-3AFE-415A-B740-607DDDDA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7AB-78BB-45BA-A3A9-5A82D0C4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A66-040E-4651-B689-9A5436B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2C7-D725-43DE-871D-27D0285D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568-DFFE-46F7-BF3F-AAC9406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414-396D-47BB-B8B6-495C88E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18E-7789-44C1-93F4-F84E908A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313-A17E-4CCC-975D-19E26D6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006-90F0-4145-B0F4-9158A3A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55A-B3D6-45F6-A4C1-70AEF3A2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2E31-320A-41DC-A880-DFED9CFAC0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usaufgaben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fgaben zur K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. 1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feld 3"/>
          <p:cNvSpPr/>
          <p:nvPr/>
        </p:nvSpPr>
        <p:spPr>
          <a:xfrm>
            <a:off x="720360" y="571680"/>
            <a:ext cx="10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2"/>
              <p:cNvSpPr txBox="1"/>
              <p:nvPr/>
            </p:nvSpPr>
            <p:spPr>
              <a:xfrm>
                <a:off x="1000080" y="1643040"/>
                <a:ext cx="7278840" cy="43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feld 3"/>
          <p:cNvSpPr/>
          <p:nvPr/>
        </p:nvSpPr>
        <p:spPr>
          <a:xfrm>
            <a:off x="720720" y="57168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b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142920" y="1643040"/>
                <a:ext cx="879624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feld 3"/>
          <p:cNvSpPr/>
          <p:nvPr/>
        </p:nvSpPr>
        <p:spPr>
          <a:xfrm>
            <a:off x="720360" y="571680"/>
            <a:ext cx="108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0" y="1571760"/>
                <a:ext cx="9020160" cy="46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ein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ugel</m:t>
                              </m:r>
                            </m:e>
                          </m:mr>
                        </m:m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limLow>
                          <m:e/>
                          <m:lim/>
                        </m:limLow>
                        <m:r>
                          <m:t xml:space="preserve">r</m:t>
                        </m:r>
                        <m:r>
                          <m:t xml:space="preserve">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feld 3"/>
          <p:cNvSpPr/>
          <p:nvPr/>
        </p:nvSpPr>
        <p:spPr>
          <a:xfrm>
            <a:off x="432720" y="35712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1071720" y="285840"/>
                <a:ext cx="777708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Textfeld 5"/>
          <p:cNvSpPr/>
          <p:nvPr/>
        </p:nvSpPr>
        <p:spPr>
          <a:xfrm>
            <a:off x="357120" y="20001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1071720" y="2143080"/>
                <a:ext cx="7397640" cy="435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≠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  <m:e>
                                    <m:r>
                                      <m:t xml:space="preserve">⇒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m>
                          <m:mr>
                            <m:e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P</m:t>
                                      </m:r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P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=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6</m:t>
                                      </m:r>
                                    </m:e>
                                  </m:rad>
                                </m:e>
                              </m:d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/>
                                </m:mr>
                              </m:m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feld 7"/>
          <p:cNvSpPr/>
          <p:nvPr/>
        </p:nvSpPr>
        <p:spPr>
          <a:xfrm>
            <a:off x="4143240" y="2071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liegt innerhal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feld 8"/>
          <p:cNvSpPr/>
          <p:nvPr/>
        </p:nvSpPr>
        <p:spPr>
          <a:xfrm>
            <a:off x="6781680" y="6072120"/>
            <a:ext cx="20052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-3/-1/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feld 3"/>
          <p:cNvSpPr/>
          <p:nvPr/>
        </p:nvSpPr>
        <p:spPr>
          <a:xfrm>
            <a:off x="432720" y="35712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976320" y="228600"/>
                <a:ext cx="7969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Textfeld 5"/>
          <p:cNvSpPr/>
          <p:nvPr/>
        </p:nvSpPr>
        <p:spPr>
          <a:xfrm>
            <a:off x="357120" y="20001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1000080" y="2135160"/>
                <a:ext cx="7413840" cy="472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≠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1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  <m:e>
                                    <m:r>
                                      <m:t xml:space="preserve">⇒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m>
                          <m:mr>
                            <m:e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P</m:t>
                                      </m:r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P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feld 7"/>
          <p:cNvSpPr/>
          <p:nvPr/>
        </p:nvSpPr>
        <p:spPr>
          <a:xfrm>
            <a:off x="5143680" y="21430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liegt außerhal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8"/>
          <p:cNvSpPr/>
          <p:nvPr/>
        </p:nvSpPr>
        <p:spPr>
          <a:xfrm>
            <a:off x="6929280" y="6072120"/>
            <a:ext cx="18576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5/6/-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feld 3"/>
          <p:cNvSpPr/>
          <p:nvPr/>
        </p:nvSpPr>
        <p:spPr>
          <a:xfrm>
            <a:off x="432720" y="35712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1071720" y="285840"/>
                <a:ext cx="777708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feld 5"/>
          <p:cNvSpPr/>
          <p:nvPr/>
        </p:nvSpPr>
        <p:spPr>
          <a:xfrm>
            <a:off x="357120" y="2357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1000080" y="2428920"/>
                <a:ext cx="471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⇒</m:t>
                                </m:r>
                              </m:e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5" name="Textfeld 8"/>
          <p:cNvSpPr/>
          <p:nvPr/>
        </p:nvSpPr>
        <p:spPr>
          <a:xfrm>
            <a:off x="6929280" y="6072120"/>
            <a:ext cx="18576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0/2/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feld 3"/>
          <p:cNvSpPr/>
          <p:nvPr/>
        </p:nvSpPr>
        <p:spPr>
          <a:xfrm>
            <a:off x="285840" y="285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1071720" y="500040"/>
                <a:ext cx="7045200" cy="30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²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²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  <m:r>
                                <m:t xml:space="preserve">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²</m:t>
                              </m:r>
                            </m:e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²</m:t>
                                  </m:r>
                                </m:e>
                              </m:rad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xistier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ür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rad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143000" y="4000680"/>
                <a:ext cx="780588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K</m:t>
                        </m:r>
                        <m:r>
                          <m:t xml:space="preserve">: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²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²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ür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eg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nerhalb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ilt</m:t>
                              </m:r>
                              <m:r>
                                <m:t xml:space="preserve">: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→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eg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ußerhalb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feld 3"/>
          <p:cNvSpPr/>
          <p:nvPr/>
        </p:nvSpPr>
        <p:spPr>
          <a:xfrm>
            <a:off x="285840" y="2142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945360" y="28584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wandlung der Ebene in HN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1000080" y="714240"/>
                <a:ext cx="7385040" cy="600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4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: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?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⋅</m:t>
                              </m:r>
                            </m:e>
                          </m:mr>
                        </m: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N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9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N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9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9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4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=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4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9</m:t>
                                          </m:r>
                                        </m:e>
                                      </m:rad>
                                    </m:den>
                                  </m:f>
                                </m:e>
                              </m:d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/>
                                </m:mr>
                                <m:mr>
                                  <m:e/>
                                </m:mr>
                              </m:m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52:29Z</dcterms:created>
  <dc:creator>Windows-Benutzer</dc:creator>
  <dc:description/>
  <dc:language>en-US</dc:language>
  <cp:lastModifiedBy>Maria</cp:lastModifiedBy>
  <dcterms:modified xsi:type="dcterms:W3CDTF">2009-12-11T13:57:26Z</dcterms:modified>
  <cp:revision>19</cp:revision>
  <dc:subject/>
  <dc:title>Hausaufgabenpräsentation</dc:title>
</cp:coreProperties>
</file>